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9.png" ContentType="image/png"/>
  <Override PartName="/ppt/media/image6.gif" ContentType="image/gif"/>
  <Override PartName="/ppt/media/image13.png" ContentType="image/png"/>
  <Override PartName="/ppt/media/image8.png" ContentType="image/png"/>
  <Override PartName="/ppt/media/image14.jpeg" ContentType="image/jpeg"/>
  <Override PartName="/ppt/media/image11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7.jpeg" ContentType="image/jpeg"/>
  <Override PartName="/ppt/media/image18.png" ContentType="image/png"/>
  <Override PartName="/ppt/media/image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587BD-89BE-4E30-A7F9-A2C9BF3A3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880AB-2286-48D3-A395-22F73523C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32D74-183E-43C8-9B28-7564E8959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8896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6880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8896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6880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85981-10B6-46F9-8B8F-51D4CAC29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C0CA6-627F-4EEC-A2D1-2F506B7AA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4991C-F3C4-4ACC-99FA-2ED48C4D1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8CEE3-8757-48F8-B62C-DFC3DB0BA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DBE76-1D39-4685-98FF-1C15F3A2F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FE93E-5487-45BB-A719-CBF6728D0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7925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B1265-A17A-4215-A265-EA2CE5ADB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89D55-086B-4EB8-B92B-F8A2D9EAB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907B0-7CC0-4FC6-8965-798CDC6AC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2C038-C1FC-4AFB-8147-079B26EA5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C1AFC-3F44-4994-AEEA-807668425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7A366-C42B-42F0-B5A6-6A28653BF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A6989-D536-4877-BF70-9669F8F53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8896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6880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8896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6880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3E864-5937-4D82-93F1-001A14916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784D8B-571B-4D7F-9E82-88079003F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F8E231-D01B-4F38-95EC-2CE024130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C96AFD-FAE5-449C-AC8E-061F40E26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F15DD3-930A-4567-9DB5-24C7FD76D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68222C-8144-4B81-8F02-E8F0238B2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C93B3-3A14-473D-A984-2A95E29A3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7925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CF88CD-EDFF-4306-99C1-5C23AD05A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994A4B-A82C-467A-9E83-CFF924E4F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5E96FC-6F3B-4745-B708-2FF8D886B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08BF33-22B8-412D-A6CF-CA640AFD4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2E15BA-4686-47DB-8640-BF816B5F7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EE1337-7923-4A3C-8CF1-CA4E560CA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8896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96880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8896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596880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FE44DF-EF00-49DA-A13B-10A6217CF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45BC4F-F0F4-4E73-92C8-E9B4E1CF4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9D2068-D2A6-4C3E-B71C-20CABB50E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80DA01-30F4-4114-9D97-1A1A4256C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C83C9-CAF1-460A-8995-1E67FD592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D00B28-38C5-4474-866E-88AA7DA0F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BBD37B-0526-4027-9AE6-06A456AFC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7925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76B6F3-D4C5-4183-96DD-BB7CA2615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6360D3-A599-4C0F-8E7F-971653294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83616C-B9D7-49E5-BDAA-62B878A30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7F7C4D-18BA-4FDA-9D17-955C18C91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9FE718-978E-4E41-A1FF-E70D0802E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07DA16-2694-4AD6-9330-ADC8241D6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8896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96880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8896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96880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0BE732-BF33-40F9-9A78-ACBE2DBE7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845B5-2841-41CF-A42D-EBFB92D5C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7925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D7BB7-4E57-415C-8AD1-DBF63FE2B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EF9E5-50A3-43B1-BFE3-E1D820BAB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19236-C43D-475B-83F8-CB985D3BA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87A5A-163F-42A8-83F7-B2C2DB41B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horizon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3" marL="16002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4" marL="20574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5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6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5714640" y="6356520"/>
            <a:ext cx="152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609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543800" y="6356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B088A-4CF0-40D2-82EE-1EA26711B681}" type="slidenum"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horizon.png"/>
          <p:cNvPicPr/>
          <p:nvPr/>
        </p:nvPicPr>
        <p:blipFill>
          <a:blip r:embed="rId2"/>
          <a:srcRect l="0" t="33333" r="0" b="0"/>
          <a:stretch/>
        </p:blipFill>
        <p:spPr>
          <a:xfrm>
            <a:off x="0" y="0"/>
            <a:ext cx="9144000" cy="4572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3" marL="16002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4" marL="20574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5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6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5714640" y="6356520"/>
            <a:ext cx="152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609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7543800" y="6356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E6F7C-5BC8-44DB-AE53-45E7C5BF36C0}" type="slidenum"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3" marL="16002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4" marL="20574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5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6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5714640" y="6356520"/>
            <a:ext cx="152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609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7543800" y="6356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48958-66FC-4173-A843-8213302CD6E6}" type="slidenum"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7" descr="horizon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3" marL="16002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4" marL="20574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5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6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5714640" y="6356520"/>
            <a:ext cx="152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609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7543800" y="6356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D009F-79A9-473D-9E7F-4CE595C6C6F9}" type="slidenum"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c729"/>
                </a:solidFill>
                <a:latin typeface="Comic Sans MS"/>
              </a:rPr>
              <a:t>People’s Republic of China &amp; Korean War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685800" y="2008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729"/>
                </a:solidFill>
                <a:latin typeface="Comic Sans MS"/>
              </a:rPr>
              <a:t>POLITICAL AND GOVERNMENTAL CHANGES DURING THE COLD WAR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69" name="Picture 2" descr="http://kinialohaguy.files.wordpress.com/2009/10/mao-zedong.jpg"/>
          <p:cNvPicPr/>
          <p:nvPr/>
        </p:nvPicPr>
        <p:blipFill>
          <a:blip r:embed="rId1"/>
          <a:stretch/>
        </p:blipFill>
        <p:spPr>
          <a:xfrm>
            <a:off x="2209680" y="5562720"/>
            <a:ext cx="1524240" cy="12952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3" descr="Kim"/>
          <p:cNvPicPr/>
          <p:nvPr/>
        </p:nvPicPr>
        <p:blipFill>
          <a:blip r:embed="rId2"/>
          <a:stretch/>
        </p:blipFill>
        <p:spPr>
          <a:xfrm>
            <a:off x="3657600" y="5562720"/>
            <a:ext cx="1676520" cy="1295280"/>
          </a:xfrm>
          <a:prstGeom prst="rect">
            <a:avLst/>
          </a:prstGeom>
          <a:ln w="9360">
            <a:solidFill>
              <a:srgbClr val="dc9e1f"/>
            </a:solidFill>
            <a:miter/>
          </a:ln>
        </p:spPr>
      </p:pic>
      <p:pic>
        <p:nvPicPr>
          <p:cNvPr id="171" name="Picture 11" descr="syng280"/>
          <p:cNvPicPr/>
          <p:nvPr/>
        </p:nvPicPr>
        <p:blipFill>
          <a:blip r:embed="rId3"/>
          <a:srcRect l="5400" t="0" r="10813" b="0"/>
          <a:stretch/>
        </p:blipFill>
        <p:spPr>
          <a:xfrm>
            <a:off x="5334120" y="5562720"/>
            <a:ext cx="1600200" cy="1295280"/>
          </a:xfrm>
          <a:prstGeom prst="rect">
            <a:avLst/>
          </a:prstGeom>
          <a:ln w="9360">
            <a:solidFill>
              <a:srgbClr val="dc9e1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7" descr="korean_war_map"/>
          <p:cNvPicPr/>
          <p:nvPr/>
        </p:nvPicPr>
        <p:blipFill>
          <a:blip r:embed="rId1"/>
          <a:stretch/>
        </p:blipFill>
        <p:spPr>
          <a:xfrm>
            <a:off x="2355840" y="0"/>
            <a:ext cx="4432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Narrow"/>
              </a:rPr>
              <a:t>THE KOREAN WAR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09480" y="160020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The UN agreed to send troops under the leadership of General Douglas MacArthur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00" name="Picture 5" descr="douglas-macarthur"/>
          <p:cNvPicPr/>
          <p:nvPr/>
        </p:nvPicPr>
        <p:blipFill>
          <a:blip r:embed="rId1"/>
          <a:stretch/>
        </p:blipFill>
        <p:spPr>
          <a:xfrm>
            <a:off x="2971800" y="2666880"/>
            <a:ext cx="3063960" cy="40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Narrow"/>
              </a:rPr>
              <a:t>THE KOREAN WAR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09480" y="160020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MacArthur forced the North Korean troops back across the 38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 Narrow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 parall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He was convinced that the UN could win only if it invaded China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5" descr="North Korea"/>
          <p:cNvPicPr/>
          <p:nvPr/>
        </p:nvPicPr>
        <p:blipFill>
          <a:blip r:embed="rId1"/>
          <a:stretch/>
        </p:blipFill>
        <p:spPr>
          <a:xfrm>
            <a:off x="762120" y="1143000"/>
            <a:ext cx="2886120" cy="421020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7" descr="The Inchon landing"/>
          <p:cNvPicPr/>
          <p:nvPr/>
        </p:nvPicPr>
        <p:blipFill>
          <a:blip r:embed="rId2"/>
          <a:stretch/>
        </p:blipFill>
        <p:spPr>
          <a:xfrm>
            <a:off x="5257800" y="1143000"/>
            <a:ext cx="2886120" cy="421020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8"/>
          <p:cNvSpPr/>
          <p:nvPr/>
        </p:nvSpPr>
        <p:spPr>
          <a:xfrm>
            <a:off x="762120" y="5638680"/>
            <a:ext cx="281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Arial"/>
              </a:rPr>
              <a:t>North Korean invasion of South Kore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Text Box 9"/>
          <p:cNvSpPr/>
          <p:nvPr/>
        </p:nvSpPr>
        <p:spPr>
          <a:xfrm>
            <a:off x="5257800" y="5715000"/>
            <a:ext cx="304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Arial"/>
              </a:rPr>
              <a:t>UN troops push North Korean troops back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7924680" cy="503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KOREA   N VS. S VIDEO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08" name="The_Korean_War__June_25__1950.asf" descr=""/>
          <p:cNvPicPr/>
          <p:nvPr/>
        </p:nvPicPr>
        <p:blipFill>
          <a:blip r:embed="rId1"/>
          <a:stretch/>
        </p:blipFill>
        <p:spPr>
          <a:xfrm>
            <a:off x="304920" y="990720"/>
            <a:ext cx="83818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208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208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2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Narrow"/>
              </a:rPr>
              <a:t>THE KOREAN WAR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609480" y="160020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President Truman would not allow General MacArthur to invade China. 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 algn="ctr"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 Narrow"/>
              </a:rPr>
              <a:t>(Truman fired MacArthur)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11" name="Picture 5" descr="macarthur-truman"/>
          <p:cNvPicPr/>
          <p:nvPr/>
        </p:nvPicPr>
        <p:blipFill>
          <a:blip r:embed="rId1"/>
          <a:stretch/>
        </p:blipFill>
        <p:spPr>
          <a:xfrm>
            <a:off x="2438280" y="3316320"/>
            <a:ext cx="4800600" cy="313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Narrow"/>
              </a:rPr>
              <a:t>THE KOREAN WAR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09480" y="160020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China sent troops to North Korea to push South Korea and UN troops back.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14" name="Picture 5" descr="Chinese intervention"/>
          <p:cNvPicPr/>
          <p:nvPr/>
        </p:nvPicPr>
        <p:blipFill>
          <a:blip r:embed="rId1"/>
          <a:stretch/>
        </p:blipFill>
        <p:spPr>
          <a:xfrm>
            <a:off x="2971800" y="2647800"/>
            <a:ext cx="2781360" cy="40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Narrow"/>
              </a:rPr>
              <a:t>THE KOREAN WAR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09480" y="160020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In July 1953, a cease-fire agreement ended the conflict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No changes were made in the borders of either country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The Korean War ended in a stalemate (neither side wins)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5" descr="The armistice"/>
          <p:cNvPicPr/>
          <p:nvPr/>
        </p:nvPicPr>
        <p:blipFill>
          <a:blip r:embed="rId1"/>
          <a:stretch/>
        </p:blipFill>
        <p:spPr>
          <a:xfrm>
            <a:off x="2895480" y="838080"/>
            <a:ext cx="36576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729"/>
                </a:solidFill>
                <a:latin typeface="Comic Sans MS"/>
              </a:rPr>
              <a:t>PEOPLE’S REPUBLIC OF CHINA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609480" y="160020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729"/>
                </a:solidFill>
                <a:latin typeface="Comic Sans MS"/>
              </a:rPr>
              <a:t>1949; Communist victory in the People’s Republic of China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729"/>
                </a:solidFill>
                <a:latin typeface="Comic Sans MS"/>
              </a:rPr>
              <a:t>Mao Zedong: leader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729"/>
                </a:solidFill>
                <a:latin typeface="Comic Sans MS"/>
              </a:rPr>
              <a:t>“</a:t>
            </a:r>
            <a:r>
              <a:rPr b="0" lang="en-US" sz="2800" spc="-1" strike="noStrike">
                <a:solidFill>
                  <a:srgbClr val="ffc729"/>
                </a:solidFill>
                <a:latin typeface="Comic Sans MS"/>
              </a:rPr>
              <a:t>Communist China” &amp; “Red China”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74" name="Picture 4" descr="C:\Users\Owner\Pictures\Microsoft Clip Organizer\j0178239.gif"/>
          <p:cNvPicPr/>
          <p:nvPr/>
        </p:nvPicPr>
        <p:blipFill>
          <a:blip r:embed="rId1"/>
          <a:stretch/>
        </p:blipFill>
        <p:spPr>
          <a:xfrm>
            <a:off x="3276720" y="4495680"/>
            <a:ext cx="2171520" cy="21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12193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dc9e1f"/>
                </a:solidFill>
                <a:latin typeface="Arial Narrow"/>
              </a:rPr>
              <a:t>Post World War II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title"/>
          </p:nvPr>
        </p:nvSpPr>
        <p:spPr>
          <a:xfrm>
            <a:off x="685800" y="2008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THE KOREAN WAR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Narrow"/>
              </a:rPr>
              <a:t>KOREA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09480" y="160020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Belonged to Japan before World War II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79" name="Picture 5" descr="i_ie_en_korea_map"/>
          <p:cNvPicPr/>
          <p:nvPr/>
        </p:nvPicPr>
        <p:blipFill>
          <a:blip r:embed="rId1"/>
          <a:stretch/>
        </p:blipFill>
        <p:spPr>
          <a:xfrm>
            <a:off x="2438280" y="2209680"/>
            <a:ext cx="386712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Narrow"/>
              </a:rPr>
              <a:t>KOREA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609480" y="160020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Korea was divided at the 38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 Narrow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 Parallel after World War II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82" name="Picture 7" descr="The 38th parallel"/>
          <p:cNvPicPr/>
          <p:nvPr/>
        </p:nvPicPr>
        <p:blipFill>
          <a:blip r:embed="rId1"/>
          <a:stretch/>
        </p:blipFill>
        <p:spPr>
          <a:xfrm>
            <a:off x="3657600" y="2438280"/>
            <a:ext cx="2381400" cy="42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Narrow"/>
              </a:rPr>
              <a:t>NORTH KOREA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09480" y="160020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North Korea was communist and supported by China (also a communist country)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85" name="Picture 5" descr="north_korea_map"/>
          <p:cNvPicPr/>
          <p:nvPr/>
        </p:nvPicPr>
        <p:blipFill>
          <a:blip r:embed="rId1"/>
          <a:stretch/>
        </p:blipFill>
        <p:spPr>
          <a:xfrm>
            <a:off x="5943600" y="3200400"/>
            <a:ext cx="2790720" cy="300996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7" descr="north-ko"/>
          <p:cNvPicPr/>
          <p:nvPr/>
        </p:nvPicPr>
        <p:blipFill>
          <a:blip r:embed="rId2"/>
          <a:stretch/>
        </p:blipFill>
        <p:spPr>
          <a:xfrm>
            <a:off x="914400" y="3429000"/>
            <a:ext cx="41148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Narrow"/>
              </a:rPr>
              <a:t>SOUTH KOREA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09480" y="160020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outh Korea was democratic and supported by the United States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89" name="Picture 5" descr="map_of_korea-south"/>
          <p:cNvPicPr/>
          <p:nvPr/>
        </p:nvPicPr>
        <p:blipFill>
          <a:blip r:embed="rId1"/>
          <a:stretch/>
        </p:blipFill>
        <p:spPr>
          <a:xfrm>
            <a:off x="5257800" y="2895480"/>
            <a:ext cx="3143160" cy="336240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7" descr="south_korea"/>
          <p:cNvPicPr/>
          <p:nvPr/>
        </p:nvPicPr>
        <p:blipFill>
          <a:blip r:embed="rId2"/>
          <a:stretch/>
        </p:blipFill>
        <p:spPr>
          <a:xfrm>
            <a:off x="609480" y="3200400"/>
            <a:ext cx="4267440" cy="28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952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Narrow"/>
              </a:rPr>
              <a:t>THE KOREAN WAR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609480" y="160020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June 1950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North Korea invaded South Korea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93" name="Picture 5" descr="2"/>
          <p:cNvPicPr/>
          <p:nvPr/>
        </p:nvPicPr>
        <p:blipFill>
          <a:blip r:embed="rId1"/>
          <a:stretch/>
        </p:blipFill>
        <p:spPr>
          <a:xfrm>
            <a:off x="2763720" y="2895480"/>
            <a:ext cx="353556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Narrow"/>
              </a:rPr>
              <a:t>THE KOREAN WAR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09480" y="160020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outh Korea and the US resisted Chinese and North Korean aggression.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President Truman asked the United Nations to send armed forces.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96" name="Picture 5" descr="h96378"/>
          <p:cNvPicPr/>
          <p:nvPr/>
        </p:nvPicPr>
        <p:blipFill>
          <a:blip r:embed="rId1"/>
          <a:stretch/>
        </p:blipFill>
        <p:spPr>
          <a:xfrm>
            <a:off x="2895480" y="3943440"/>
            <a:ext cx="3505320" cy="29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2T13:51:42Z</dcterms:created>
  <dc:creator>pecps</dc:creator>
  <dc:description/>
  <dc:language>en-US</dc:language>
  <cp:lastModifiedBy>Vickie J. Dean</cp:lastModifiedBy>
  <dcterms:modified xsi:type="dcterms:W3CDTF">2014-03-20T14:21:05Z</dcterms:modified>
  <cp:revision>13</cp:revision>
  <dc:subject/>
  <dc:title>The Korean War</dc:title>
</cp:coreProperties>
</file>